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B0E-A8A2-4C43-A75F-E7218402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8E7-BBC8-4954-A3A6-30CD6171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37F3C-2CC9-4077-A503-EBC425D0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88751-1B53-4B82-BCDD-FE5BDCD1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00881-326E-4068-9093-8AC12F0B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6A717-D317-4BFF-ADE4-A49692A1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986C3-E3C6-4C2B-84AF-D7D01704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CB0FB-7730-41C3-B4BF-4DD2CDD1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45991-13D6-4BFF-980A-E89262CA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23CA6-71D6-44DB-8B11-DAC061AB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FC435-CAB4-47BC-B149-F87006D9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33353-7E3F-4AC6-A872-F2673A67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537-31EB-4EB7-82DA-797405F7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6AA73-16CB-40BB-BFFB-A50A47EC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AF37D-5E0F-4D38-A8CE-EADF991C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395E4-B265-4653-980E-9BBE7C05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40F61-60A8-4ECB-8555-67B77116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89FBD-B0FF-4637-A67C-1A000F4B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DD6B4-D2AB-4802-B1B9-51863B52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04A13-1422-4283-9612-962D9718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B8CF6-8B7D-440B-B807-C859F135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AED56-ACD1-4C42-9353-B394F917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04B80-42C4-4279-B6AD-6FE0BCB9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4AD-6BA1-4594-8843-AEDF8704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A6EE6-7401-4122-95D1-6CCD6510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64F71-6A36-4257-AC3B-8ED1EC2E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83612-433B-46BD-8631-BC67F63F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33D3A-C0CE-4A5B-9BA3-31299E7E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F77C0-E700-4BF8-AB58-610B2950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A276D-7A1B-4BC3-908D-5172C3EE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6DC9F-6505-446A-B320-9548BB93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649A5-5B16-47F1-A172-0E4BCFE6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A3AC8-8630-4F6D-88A1-1D563828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51F36-5396-4C0E-8A84-9E735C0C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31A2-81D6-461D-B0E7-7B798952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BE173-E242-4E87-85E5-5F38E61A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74B7B-78FE-4A9A-8927-DC06B537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321BE-3BDF-4387-A90D-63E18FF0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3DC9B-8370-4540-98F5-2488D984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9AAD9-838B-47B3-90E2-8C882F04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E5490-1FF7-43B0-9208-D5FA3312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44569-3879-4A6A-B3F1-175CCE19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62AD5-C282-42B0-AF37-D91F0D4C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9F633-C5E9-4AF9-BDD7-12668190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619EC-C868-43A5-A66A-B5CF03A7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EFC5-1233-467D-A4ED-9938CD1D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7F365-4A9F-47F6-A609-1AC601CD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6B920-85AF-4F83-8611-561896F9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93B5E-3CF8-46B8-AF6A-45E6B72D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A1140-D306-4AF1-9C8E-FDA73091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89326-DBE8-4469-8CE0-2BDB4CD0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66651-C4B6-4011-995C-3BA75472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5D37D-801F-4B1A-802D-113193E7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A549B-65A7-4B8B-8424-48D01951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573D6-19EF-4FFB-9440-367B8AC6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62BF2-7678-4A2D-BF51-70D76047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EF51-6B56-4764-B99E-B482C10B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68F86-36B1-47C5-9AB8-DEE85653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38FC7-1D77-407B-9D19-F90B2DCC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C4402-7B12-463C-9713-572C3AAF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13CFDD-413B-46BF-963F-6A033790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4EB64-C013-46F3-9C55-4E422C27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43D4B-4462-4881-806F-A22FA25D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C928E-1B1E-4103-8993-1FB2E09F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C3C6A-BCC0-491E-A92E-C1F2E2D7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545F1-3582-4B6A-93B5-6DDB1442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86B463-24E6-449C-BB7B-8609697E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EAB1-6D5C-4624-9501-1F6925F0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0669C-17DF-46BD-B35B-34D86BC7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C4612-A748-47C7-852B-722DC6C6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00A39-7544-40E7-B5D8-5881089F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EC543-4EDF-4BDF-8D1F-432061F6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AB79A5-2970-458C-80DC-0FE9D153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E8A672-BAE7-4E1F-B343-1BE551A5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BBF09-F326-417B-B791-6A8B7914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63EDC-F8C8-4293-B791-7DBF1F94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791DD-7BF9-448A-A630-89A30E4E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C3FE5B-B957-40B4-A3A7-56AAB205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1DF9-6EDD-4C90-9A11-0F135DFD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B605B3-ED74-4044-8196-EB38B516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AAC62E-1FCB-4840-9B4B-B95A0739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6511A-66EC-4BEE-8666-E8CF06E5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D21C6E-719E-4248-9ED6-3488AA09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2FE343-7286-4927-AFEF-F68020B5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3FFB41-A3DC-4FCB-9125-915A8CC1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202039-3A9E-4CB2-8F06-F3CE6B11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483B4-D700-4135-A8AB-6136BA50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68F2B-2C9B-47EC-9FD3-037AEE9C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41869F-103A-493A-9E68-3A5E2A87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8FB5-1DDA-4274-94D6-45ADBF97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D055B-8049-47A1-8D73-37EC0F99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CFC7D-2587-4CC9-88BD-6DB27051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8F1AA-11D9-495D-9FDC-377608F3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D1A40-3E0A-4792-9926-824FC92E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95269-6721-4B72-99CC-8A9A152E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9627C-5CE2-4D9E-B1F8-F15D0A9D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D47EE1-2B86-4D76-A52A-4F6ED782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66C16-974E-42AB-8D04-B983A103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FFB55-A705-4C0C-B5B7-30305691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2736C-DFFA-4589-ABB6-9EE79159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12CD-B27B-4F7E-A5DD-6DF90DC3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00304-D4B0-4910-BEC4-385F075B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FEEEDC-E86C-41DB-BC2E-A798BC47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7F003-BB31-4FAE-B2AB-4F9D46A8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054117-D95D-4C65-A2E9-E6FBB122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0C6875-4319-431C-9E6C-DE13611A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F4ED1-1280-4C24-BD5A-9E339AE5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B5230-9933-4E6C-80FF-708B8B32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037B6-5D11-48D8-9DEA-249C65C3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FC757C-210E-4B9C-BA83-F97C17BB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B818DB-EE65-40EF-BB18-15643560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810-0EB4-4A64-BA55-D5A6FBBF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768C-1057-450E-842C-7AEC7CF7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8AC84-48AA-42E6-9298-92EBDC5B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BA7355-6673-4242-B49D-44C38736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258454-CD64-433A-9D8E-49CF0908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6C143-08C1-493B-9013-7FC7E724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E2322B-C595-4732-A2DD-6F5052E0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8C2EE1-DF3E-43FA-A573-36C83399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4BF142-39E0-4991-BDAA-E9615EF1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ED1F99-7A15-4302-B695-95E84331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4DC6F9-F18B-4123-8122-DA1742BA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5D5EF2-A734-4A3D-BD5B-F37212F0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AD09-5555-456C-9ABC-83C73261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EC499C-517C-4025-BCAE-B3AE5DC6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85B9C7-6834-4D03-8A0F-C114A7B1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FDB2F8-3CED-412F-B810-2A5B9C8F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47D3E0-26C1-45A1-B21F-20F002EE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D1DDFD-56C9-49B3-9C26-7170C710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15E9CA-46EE-4A97-BCA9-CD37C24A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E7BE1A-139D-4CB7-97D2-E6302C47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3B99F5-0C73-493A-9BD6-165F78DD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37FE60-F048-4CF9-82DB-AF909C21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C5A2F8-616A-4420-A3BB-41A8CB79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DB98-1E3E-411B-91A5-8E13B91B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B57F6D-A0C6-4A76-9FB6-AE2A5E3F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F363F3-70D1-4E9F-8701-4F6A286F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BD5A36-88BD-4A0C-A9C1-77132243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B6924D-C9E1-4A71-8752-12F93DB8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F31D77-E794-44FA-8BFD-73B49A32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5AD520-0DF5-4A0B-A545-1E45EC21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A1A10B-B0EB-4355-80AA-0E2448BB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2EB5AA-AB0C-4272-9A77-665DD80E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437423-E4AB-4244-9492-50FD7CA0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D06CFE-27CA-41D1-95E3-BC4E4AED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367C-11FB-4C01-B408-9F117CED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CAC2BD-558E-42CD-8E0C-81F329F9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AFE015-4D5B-4731-8933-A2D872C6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4D024C-8690-48E3-850F-C1681693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EEEB67-E52D-407C-96C7-546E7679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9E7D29-EE37-47F4-B5C9-4CD69E14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D7422B-B051-4990-BFD7-8CD5A742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A0255B-F972-4FD8-A055-6D34A74C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6D7452-4172-4B8A-B29B-69C80554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ECC92E-D3AA-4C8A-BC4B-04755C7E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731AB4-EB12-4FCB-9340-F7FD8BAC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9609-C58F-40E5-9457-C7CAF882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5FE59B-C8EC-4B52-BB15-5A91DFEB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C9E731-552D-4275-B4D9-F2AE1107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397222-F01E-4909-BAA7-50A694E6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A088ED-78FB-4943-837E-D2C4F06C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388116-1E5A-4327-BB49-DC44B91D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460E4D-A147-47E8-9A7D-F26A81C3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41639D-3DA1-4EF5-BBC9-9E16B45C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1EBC0B-5AC9-447C-A15E-C13FDC8E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2EF094-EEDF-486B-87E4-10B02630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DEC248-D220-4C71-9412-23537771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92C1F-FA8D-43DB-A6D4-981DFE94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B65EFC-0291-4210-9E6C-88F0ADB3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0199E0-916C-45D6-938D-A3DCE602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78BFD4-E345-4C29-88FF-F326DA49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33F6-D24D-4900-B87B-A9726A47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CAB7F-653C-40F9-A4DE-E5A5AFB7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7DE70-845C-4483-900F-4225ECF2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CBB7B-272A-4026-9E29-469A40FB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A90-5789-4BE4-A987-EB0C574F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31BD7-D56F-4C91-8961-59F15E25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CF803-4F69-4544-BF7D-5EA1DA75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4E2F9-B045-42E0-89BE-90980EB9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43800-50FF-4B18-A1E6-36DA31C6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FDCB4-76D3-4141-B04C-6C01643B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1FE7-949E-4670-B087-91429C27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8BE5F-06FF-45D1-B138-ED40D350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34E6A-CC0D-4F4C-888E-1BC7D0C1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D1EC3-D370-4405-9BCD-CC121647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3878D-D4CF-410E-B27F-FC4BF883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557-E268-47FA-8721-F8A0604D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DDA22-65D8-4A0F-92EB-569E7F3E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0F5FB-C243-4681-9CC4-420E6E8B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B373F-C42B-4535-AAF3-94173912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59125-116B-43A7-BBCD-0FA0B675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8960E-33E1-4126-8ACA-0CA9FEB1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765A6-DC42-4147-8F6B-52D7D485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2A607-16BF-4D67-92D6-2E01E8AA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4AD4D-AB39-4096-AD9C-6B64DB64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514B4-3024-4425-B95B-8CA9A824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3CC3A-CDC5-4EA5-9D58-618578A6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107-79EA-4013-B375-3CED9EC3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DBB98-E07C-4191-B9E7-0EBC27DA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E1C65-37EB-43B7-BB2E-17176A10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27A13-99A8-414D-AB29-C8F1D9E2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F15C6-E6AB-465E-9E4A-5795AC59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BEFAA-F428-42A0-99D0-CC3641D7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99BF3-6F96-4A4B-97F1-EF26D483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4236B-3CA4-463C-A9D0-08BA1B18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87E44-7968-4A23-9843-B8B4111F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ABC09-62B5-44E8-B76F-0F855976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9FECE-A23E-40D4-8227-AED20962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618-A78B-4199-92E4-E26CF37F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48DDB-CA76-47A0-BCAE-24180F97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96B1D-E6FD-4F64-939F-3AAA83C8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3FD65-53C6-4D90-9E6A-2E97B284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627AD-DF3F-4790-9AD8-0D050163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42213-50BB-44DF-AF50-842DAE08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596EC-D633-46C5-8328-58009FF0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F9F9C-F25A-4369-81A4-E8561F80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526FC-73E4-4897-BD23-CAF31B69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103C5-EB39-4391-91C8-1B5C5789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3253A-0F41-4BD2-A111-219B1AAE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AA6-A5D0-4AFE-BB3D-1D5C577E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DBBA2-49F8-4C03-8847-B4B37553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B897A-1023-426B-BA54-1F6A985C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47352-BFA1-4D4B-BE5D-228BE9F0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C20C2-7140-446E-AE4F-783B32BB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04025-CB17-4211-B81D-34951B73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80077-3A99-4DA9-BDF3-49781D89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9659E-8579-4836-A3DA-F8468BC6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2D18F-EF55-4206-836C-27980E37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48F01-D60A-4F31-BFB1-D52AC7A0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0BA15-88F3-4090-B2AB-CB74C96E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B5B-7367-420B-9F64-17E6A116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BFF39-576A-4014-B684-4A105F3C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8B45C-B37E-4DE4-B070-6751D872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9DC1B-1BFC-48A4-B3C1-471CFF42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4C356-3E5C-45FD-AB94-EE97FD2A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67BC8-9837-43D8-82E1-DF492F0D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B486E-A944-49FD-84AE-0A146F7F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7A53A-A86B-4DB4-AB2C-88D372F5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2BA23-C236-41E4-88CD-56C6F964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003B2-B1CE-40F1-A4E3-674C5B99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D8273-CCA9-406E-A566-65C6B98A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6C5-08E8-4B10-A745-7A323EAE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24813-75E2-4B28-A923-EB5C8CF8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620B6-E12B-466F-8AA2-6AFCC458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5E5B4-04AF-4AB6-A05D-61116E44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4D056-30B4-4958-A691-80F054C7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C7459-8768-46A3-AE8E-66464392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E81B6-42F1-4789-820D-153CE69F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1844E-BE49-4765-B8B4-385C9951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20A69-F3F3-4270-8AAC-EE6C2689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FFDC8-FE83-4358-B6A2-EDDD325B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4279E-DE95-4EED-AC53-4E2A431A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A440-8DE3-4337-B152-B2B16765B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579C-745D-4C39-9C83-2FB92A7E0E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1E36-81D3-4E3D-BE08-A701A299C6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B0CC-62DA-4470-A7D8-E5138EBDB9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9BD0-2B4D-47E0-9BE9-945CFE0EB6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C217-D9CB-4ACB-BBCE-A4C9BAD832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8D70-A72D-441D-A061-368F3EBF58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B758-2361-42E6-A86D-7E5C6A5DCA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12E9-2DF1-43B7-8BC1-D3881AF603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A849-0E75-4A0D-A794-9294613FEA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2384-1BBB-46DE-9FE5-866AFB93F2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6BCD-C4B5-4720-8144-FC7510D3D6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C3C8-8713-42F7-8F0A-50F2AD607A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8B0C-14A4-4BDD-AD02-38568DF751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B529-B73D-4DAE-A633-902B612979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A5BB-A6D0-42F4-A84D-A0AAD68353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9056-B54F-4AB8-BE91-ADFE753EB7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1D28-CB78-4597-A1C9-129E022ECF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89C8-091F-4BAF-96BD-642B4A938E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BE9F-1FB5-4AD4-9F99-08290EBBD6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2DCE-7730-4A88-88C7-CC7D30BAB5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7ACD-4DCE-4A6B-8C7B-861142DED8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8D2A-C93D-4027-9D2E-A770125DE3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6061-0F61-421B-8DEC-E21F45829D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2110-8D98-4416-9099-8294C0B458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980F-8ED8-453E-8BF1-3B6514BA95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E0E3-46D7-4C5B-820C-463CABB299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0777-3115-4ADE-A5EB-6B52D0D63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B985-AC36-4B7C-A11B-5CB030B660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A071-2F4E-4F8C-93A6-2FC6C5FA7A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CD59-A6AF-419E-881C-D62F53C01D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0786-D201-4015-9D63-9BE996FC0A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CCE7-404E-4CD6-B2E7-A0AFC3002E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C62A-319F-4ACC-9568-B9F7165F18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898F-8BBC-4F3E-9BF8-693375D347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8CED-3D84-4D3A-B338-53DEE2EE0A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3F0A-5E17-4CD0-BC2F-03241E9342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7668-104C-4AD0-BE14-E98180EBF8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7B24-2D06-4C69-A07F-793BA07BCD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69B8-99EA-4072-893D-3A3DE85EFF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619360" y="3195720"/>
            <a:ext cx="39052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358920" y="1003320"/>
            <a:ext cx="8334360" cy="45720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3" descr=""/>
          <p:cNvPicPr/>
          <p:nvPr/>
        </p:nvPicPr>
        <p:blipFill>
          <a:blip r:embed="rId2"/>
          <a:stretch/>
        </p:blipFill>
        <p:spPr>
          <a:xfrm>
            <a:off x="960480" y="1581120"/>
            <a:ext cx="7875720" cy="48848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3"/>
          <a:stretch/>
        </p:blipFill>
        <p:spPr>
          <a:xfrm>
            <a:off x="6300720" y="5373720"/>
            <a:ext cx="2016360" cy="4428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4"/>
          <a:stretch/>
        </p:blipFill>
        <p:spPr>
          <a:xfrm>
            <a:off x="4716360" y="5950080"/>
            <a:ext cx="647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228600" y="789120"/>
            <a:ext cx="8686800" cy="59324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2"/>
          <a:stretch/>
        </p:blipFill>
        <p:spPr>
          <a:xfrm>
            <a:off x="8317080" y="765000"/>
            <a:ext cx="519120" cy="4431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3"/>
          <a:stretch/>
        </p:blipFill>
        <p:spPr>
          <a:xfrm>
            <a:off x="1619280" y="1347840"/>
            <a:ext cx="3816360" cy="4428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4"/>
          <a:stretch/>
        </p:blipFill>
        <p:spPr>
          <a:xfrm>
            <a:off x="6156360" y="1940040"/>
            <a:ext cx="2663640" cy="4428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5"/>
          <a:stretch/>
        </p:blipFill>
        <p:spPr>
          <a:xfrm>
            <a:off x="1547640" y="2522520"/>
            <a:ext cx="2664000" cy="4428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6"/>
          <a:stretch/>
        </p:blipFill>
        <p:spPr>
          <a:xfrm>
            <a:off x="1979640" y="4917960"/>
            <a:ext cx="568800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358920" y="896760"/>
            <a:ext cx="842796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1" descr=""/>
          <p:cNvPicPr/>
          <p:nvPr/>
        </p:nvPicPr>
        <p:blipFill>
          <a:blip r:embed="rId1"/>
          <a:stretch/>
        </p:blipFill>
        <p:spPr>
          <a:xfrm>
            <a:off x="500040" y="1155600"/>
            <a:ext cx="8142480" cy="52866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2"/>
          <a:stretch/>
        </p:blipFill>
        <p:spPr>
          <a:xfrm>
            <a:off x="1747800" y="2306520"/>
            <a:ext cx="3457440" cy="4431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3"/>
          <a:stretch/>
        </p:blipFill>
        <p:spPr>
          <a:xfrm>
            <a:off x="2700360" y="4076640"/>
            <a:ext cx="3743280" cy="4428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4"/>
          <a:stretch/>
        </p:blipFill>
        <p:spPr>
          <a:xfrm>
            <a:off x="4140360" y="5877000"/>
            <a:ext cx="30240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1" descr=""/>
          <p:cNvPicPr/>
          <p:nvPr/>
        </p:nvPicPr>
        <p:blipFill>
          <a:blip r:embed="rId1"/>
          <a:stretch/>
        </p:blipFill>
        <p:spPr>
          <a:xfrm>
            <a:off x="614520" y="2171880"/>
            <a:ext cx="7913520" cy="25146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2"/>
          <a:stretch/>
        </p:blipFill>
        <p:spPr>
          <a:xfrm>
            <a:off x="1979640" y="2811600"/>
            <a:ext cx="4321080" cy="5936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3"/>
          <a:stretch/>
        </p:blipFill>
        <p:spPr>
          <a:xfrm>
            <a:off x="3348000" y="4114800"/>
            <a:ext cx="2879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62000" y="698400"/>
            <a:ext cx="8820000" cy="6115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3132000" y="1890720"/>
            <a:ext cx="649440" cy="287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4284720" y="1890720"/>
            <a:ext cx="503280" cy="287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2843280" y="2292480"/>
            <a:ext cx="3097080" cy="287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6732720" y="2276640"/>
            <a:ext cx="649080" cy="287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1619280" y="3475080"/>
            <a:ext cx="649080" cy="287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2771640" y="3500280"/>
            <a:ext cx="649440" cy="2876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8"/>
          <a:stretch/>
        </p:blipFill>
        <p:spPr>
          <a:xfrm>
            <a:off x="5651640" y="3486240"/>
            <a:ext cx="865080" cy="287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9"/>
          <a:stretch/>
        </p:blipFill>
        <p:spPr>
          <a:xfrm>
            <a:off x="6986520" y="3494160"/>
            <a:ext cx="649440" cy="287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10"/>
          <a:stretch/>
        </p:blipFill>
        <p:spPr>
          <a:xfrm>
            <a:off x="6156360" y="3860640"/>
            <a:ext cx="936720" cy="2876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11"/>
          <a:stretch/>
        </p:blipFill>
        <p:spPr>
          <a:xfrm>
            <a:off x="2230560" y="4668840"/>
            <a:ext cx="649080" cy="287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12"/>
          <a:stretch/>
        </p:blipFill>
        <p:spPr>
          <a:xfrm>
            <a:off x="6300720" y="4675320"/>
            <a:ext cx="1295640" cy="287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13"/>
          <a:stretch/>
        </p:blipFill>
        <p:spPr>
          <a:xfrm>
            <a:off x="1187280" y="5084640"/>
            <a:ext cx="863640" cy="2876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14"/>
          <a:stretch/>
        </p:blipFill>
        <p:spPr>
          <a:xfrm>
            <a:off x="2556000" y="5084640"/>
            <a:ext cx="649080" cy="2876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15"/>
          <a:stretch/>
        </p:blipFill>
        <p:spPr>
          <a:xfrm>
            <a:off x="6156360" y="5084640"/>
            <a:ext cx="165564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176040" y="1014480"/>
            <a:ext cx="8791920" cy="54388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2"/>
          <a:stretch/>
        </p:blipFill>
        <p:spPr>
          <a:xfrm>
            <a:off x="8388360" y="1413000"/>
            <a:ext cx="385920" cy="328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3"/>
          <a:stretch/>
        </p:blipFill>
        <p:spPr>
          <a:xfrm>
            <a:off x="8388360" y="4971960"/>
            <a:ext cx="385920" cy="3286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4"/>
          <a:stretch/>
        </p:blipFill>
        <p:spPr>
          <a:xfrm>
            <a:off x="8388360" y="5722920"/>
            <a:ext cx="3859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147600" y="1181160"/>
            <a:ext cx="8848800" cy="52005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2"/>
          <a:stretch/>
        </p:blipFill>
        <p:spPr>
          <a:xfrm>
            <a:off x="8388360" y="1989000"/>
            <a:ext cx="385920" cy="3286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3"/>
          <a:stretch/>
        </p:blipFill>
        <p:spPr>
          <a:xfrm>
            <a:off x="8388360" y="4411800"/>
            <a:ext cx="38592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rcRect l="0" t="1260" r="0" b="0"/>
          <a:stretch/>
        </p:blipFill>
        <p:spPr>
          <a:xfrm>
            <a:off x="352440" y="1103400"/>
            <a:ext cx="8439120" cy="47116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2"/>
          <a:stretch/>
        </p:blipFill>
        <p:spPr>
          <a:xfrm>
            <a:off x="7885080" y="292428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385920" y="1090440"/>
            <a:ext cx="8370720" cy="52866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2"/>
          <a:stretch/>
        </p:blipFill>
        <p:spPr>
          <a:xfrm>
            <a:off x="7956720" y="2852640"/>
            <a:ext cx="5191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2" descr=""/>
          <p:cNvPicPr/>
          <p:nvPr/>
        </p:nvPicPr>
        <p:blipFill>
          <a:blip r:embed="rId1"/>
          <a:stretch/>
        </p:blipFill>
        <p:spPr>
          <a:xfrm>
            <a:off x="318960" y="1967040"/>
            <a:ext cx="8504280" cy="29239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2"/>
          <a:stretch/>
        </p:blipFill>
        <p:spPr>
          <a:xfrm>
            <a:off x="7834320" y="3201840"/>
            <a:ext cx="5191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3" descr=""/>
          <p:cNvPicPr/>
          <p:nvPr/>
        </p:nvPicPr>
        <p:blipFill>
          <a:blip r:embed="rId1"/>
          <a:stretch/>
        </p:blipFill>
        <p:spPr>
          <a:xfrm>
            <a:off x="320760" y="1027080"/>
            <a:ext cx="8504280" cy="53038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2"/>
          <a:stretch/>
        </p:blipFill>
        <p:spPr>
          <a:xfrm>
            <a:off x="7885080" y="221292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333360" y="817560"/>
            <a:ext cx="8477280" cy="58086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2"/>
          <a:stretch/>
        </p:blipFill>
        <p:spPr>
          <a:xfrm>
            <a:off x="4140360" y="2527200"/>
            <a:ext cx="1655640" cy="4431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3"/>
          <a:stretch/>
        </p:blipFill>
        <p:spPr>
          <a:xfrm>
            <a:off x="6804000" y="3716280"/>
            <a:ext cx="1944720" cy="4428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4"/>
          <a:stretch/>
        </p:blipFill>
        <p:spPr>
          <a:xfrm>
            <a:off x="1476360" y="4316400"/>
            <a:ext cx="2087640" cy="4428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5"/>
          <a:stretch/>
        </p:blipFill>
        <p:spPr>
          <a:xfrm>
            <a:off x="1908000" y="6108840"/>
            <a:ext cx="446436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39:01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